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5.wmf" ContentType="image/x-wmf"/>
  <Override PartName="/ppt/media/image18.gif" ContentType="image/gif"/>
  <Override PartName="/ppt/media/image8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6858BA-E270-4DBC-893A-8BFE9AC28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97E897-ED49-4E5D-B048-E95AFC72E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869589-F602-4D95-886D-1C286A9A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Our turn to share: How we opened up the task…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Started with an existing task (Hula Hoop Activity from TIPS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Developed learning goals based on the overall/specific expectation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" spc="-1" strike="noStrike">
                <a:solidFill>
                  <a:srgbClr val="000000"/>
                </a:solidFill>
                <a:latin typeface="Arial"/>
              </a:rPr>
              <a:t>Focus on the big ide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25 minutes – do you think this is enough?  Also, rather than have them write all the BI and expectations, lets have them code it someway to make it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608FD8-7633-494E-8767-E5CB7F1C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olidate –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C91394-4236-49E0-A936-5CC9FAF18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7A9D73-FE71-4D85-838E-F199829F1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k the participants to complete the statement:  "What's important about parallel tasks is …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complete on a sticky and post on the door as they le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985091-FBE2-4BBA-AE5E-091F8143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635F40-772F-4B4C-9822-B983C2C2C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brief with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 – task and debrief – 1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 about follow-up with expectations and processes – just a reminder to include process expectations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F48D29C-FDFA-435A-8256-69459921E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284D5E-EF87-4707-BDD0-EE6479531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B1C838-25D0-4791-AC08-74A720D20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2E2675-3EA1-4B15-80E9-69DB62869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3F1A11-D867-444B-8E09-E93183587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7B010F-B470-48C7-85BE-0D69D364E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1DE-51C9-449E-B47E-F08B211C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FF4-9C83-4A86-83D2-AD80E117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6C7-60DF-4237-BB74-7511801B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4FD-09B7-4D52-A9C0-05C8A8AA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CD2A-BBE6-4B33-930F-019B4652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BED0-3A47-4B81-A0D2-8020E749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57EC-4C05-485E-AF03-35CC4950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A65E-DB09-4685-92CC-F5E08C8C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9B77-3A91-4E31-B67D-3E318E90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F01E-2D5C-4E26-8315-9C0B90E6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632D-7D17-4F17-9BB8-78E62BA7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ADC-2467-4EBE-BEA4-844FFDA5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AE02-07AE-4894-A3F1-A366CCD9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79F7-2DD3-4B57-A7DE-1643BCF2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A374-5393-43FB-B212-B01D991C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EF6F-6258-43B5-A363-87B4E908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838C-E78B-4086-B4C5-EBCE5EE9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128-4FB4-4C81-BFF5-FBCC4F85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904-7948-4C4F-8FA5-59B6041F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C02-B9B4-4EEB-8255-E610925F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575-AA9F-4461-9569-226D1D24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8CD-D2FC-48C8-BC3F-2B41324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5E9-FE81-4196-8571-33F1290C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6C0-C866-4EEE-8808-6D7806C9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8F8B-7891-4795-A458-149B588722D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336600"/>
            <a:ext cx="8388360" cy="185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02520" y="13500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487600" y="2667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27A-0119-4FA9-ABEB-58B722164E2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85332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6000" y="152280"/>
            <a:ext cx="1590480" cy="5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43280" y="241200"/>
            <a:ext cx="32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Arial"/>
              </a:rPr>
              <a:t>Summer 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ages.google.ca/imgres?imgurl=http://www.texarkanacollege.edu/~mstorey/NOVA/Image892.jpg&amp;imgrefurl=http://www.texarkanacollege.edu/~mstorey/NOVA/tiworkshops.html&amp;usg=__X0JPtT8oUsEa-Yk6bbQFk-9ediY=&amp;h=287&amp;w=249&amp;sz=21&amp;hl=en&amp;start=6&amp;tbnid=H_2TO7IwNN8LKM:&amp;tbnh=115&amp;tbnw=100&amp;prev=/images%3Fq%3DTI%2BCBR%26gbv%3D2%26hl%3Den%26sa%3D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s.google.ca/imgres?imgurl=http://www.ti83calculator.net/ti83.jpg&amp;imgrefurl=http://www.ti83calculator.net/&amp;usg=__Uy2lF01SbsJNbCom6Xq3_0bwehY=&amp;h=351&amp;w=225&amp;sz=22&amp;hl=en&amp;start=19&amp;tbnid=1JhiWyS8HNOPrM:&amp;tbnh=120&amp;tbnw=77&amp;prev=/images%3Fq%3DTI%2Bcalculator%26gbv%3D2%26hl%3Den%26sa%3D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5520" y="1989000"/>
            <a:ext cx="63788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90d8"/>
                </a:solidFill>
                <a:latin typeface="Arial"/>
              </a:rPr>
              <a:t>Mathematics</a:t>
            </a:r>
            <a:br>
              <a:rPr sz="3200"/>
            </a:br>
            <a:r>
              <a:rPr b="1" lang="en-US" sz="4800" spc="-1" strike="noStrike">
                <a:solidFill>
                  <a:srgbClr val="20c657"/>
                </a:solidFill>
                <a:latin typeface="Arial"/>
              </a:rPr>
              <a:t>Summer Institute</a:t>
            </a:r>
            <a:br>
              <a:rPr sz="4400"/>
            </a:b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645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b42478"/>
                </a:solidFill>
                <a:latin typeface="Arial"/>
              </a:rPr>
              <a:t>Quadratic &amp; Trigonometric Relationships</a:t>
            </a:r>
            <a:r>
              <a:rPr b="1" lang="en-CA" sz="2800" spc="-1" strike="noStrike">
                <a:solidFill>
                  <a:srgbClr val="21d1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3640" y="50706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90d8"/>
                </a:solidFill>
                <a:latin typeface="Arial"/>
              </a:rPr>
              <a:t>Sessions  4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6280" y="1904760"/>
            <a:ext cx="78595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would the function change if the given point (-1, 5) changed to (-1, -5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B29-58E3-4521-A7F0-18AEE3BDFA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Parallel Tasks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one of the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orm a group with others working on the sam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mplete the task by selecting one of the questions and then prompt each other using the follow-up question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atch the parallel task to a big idea and then find all the expectations that are addressed by the two paralle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6ED-7A90-4C32-ACF9-4CFA65B8E9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8400" y="169992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Arial"/>
              </a:rPr>
              <a:t>Break Tim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CA" sz="4000" spc="-1" strike="noStrike">
                <a:solidFill>
                  <a:srgbClr val="333399"/>
                </a:solidFill>
                <a:latin typeface="Arial"/>
              </a:rPr>
              <a:t>– 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15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alk the Walk &amp; Talk th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222876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67080"/>
            <a:ext cx="3240000" cy="373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79640" y="2960640"/>
            <a:ext cx="1590840" cy="24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70B-BB8D-4F3E-A38C-1DA0F6AA06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 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3280" y="1376280"/>
            <a:ext cx="5472000" cy="3141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959280" cy="289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62520" y="495468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cord your thinking on your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A21-55F3-4AFF-B987-56D104F3F5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…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orm teams of four (walker, calculator operator, CBR manager, record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one of the walks pictured or create your own.  See BLM 3.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Discuss and record how you will “Walk the Walk”  to make the graph and use this knowledge to create a similar graph with a graphing calculator and a CB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742-5FD0-4778-93F2-0A210AA857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6360" y="170028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1981440" cy="1319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04836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606840" y="400536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871640" y="173664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53D-4AA6-4BC3-A8EC-5E974CA7E5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…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ole group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Why is this a parallel/open tas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Scaffolding question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cepts covered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Rates of change, periodic nature of walk, maximum, minimum, intervals of increase and decrease, points of inflec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Connection to big idea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cb0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b04d"/>
                </a:solidFill>
                <a:latin typeface="Verdana"/>
              </a:rPr>
              <a:t>Talk the Tal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D01-8594-424C-930D-27F05AADAD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"/>
              </a:rPr>
              <a:t>Action!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 – Create a Parallel Task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844640"/>
            <a:ext cx="777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748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elect a big idea and an overall expectation from either a quadratic relations strand or a trig. functions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nsider the potential struggles that students might encounter with this big idea or expec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reate a lesson goal and an appropriate parallel task that addresses that expec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E99-0A0F-4642-A41A-97463F709A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490d8"/>
                </a:solidFill>
                <a:latin typeface="Arial"/>
              </a:rPr>
              <a:t>Consolidate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– Revisiting l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Join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change parallel tasks for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rite suggestions on stick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11F-DD7C-4040-828F-F645905B9C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539640" y="981000"/>
            <a:ext cx="8207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Modeling in a </a:t>
            </a:r>
            <a:br>
              <a:rPr sz="4800"/>
            </a:br>
            <a:r>
              <a:rPr b="1" lang="en-US" sz="4800" spc="-1" strike="noStrike">
                <a:solidFill>
                  <a:srgbClr val="0d469b"/>
                </a:solidFill>
                <a:latin typeface="Verdana"/>
              </a:rPr>
              <a:t>Parallel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306864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5D4-0EC4-4984-B395-28E0421BE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Consolidate / Debrief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2894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33399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86540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AFF-3A58-4D30-ACD2-E808D0CCB2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8" descr="C:\Users\Chili\AppData\Local\Microsoft\Windows\Temporary Internet Files\Content.IE5\BH9ZW7WV\MCj03963280000[1].wmf"/>
          <p:cNvPicPr/>
          <p:nvPr/>
        </p:nvPicPr>
        <p:blipFill>
          <a:blip r:embed="rId1"/>
          <a:srcRect l="25091" t="18386" r="64461" b="18386"/>
          <a:stretch/>
        </p:blipFill>
        <p:spPr>
          <a:xfrm>
            <a:off x="7358040" y="3429000"/>
            <a:ext cx="357120" cy="221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Consolidate – Exit Card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3" name="Picture 13" descr="C:\Users\Chili\AppData\Local\Microsoft\Windows\Temporary Internet Files\Content.IE5\X3U5RRU8\MMj03566040000[1].gif"/>
          <p:cNvPicPr/>
          <p:nvPr/>
        </p:nvPicPr>
        <p:blipFill>
          <a:blip r:embed="rId2"/>
          <a:stretch/>
        </p:blipFill>
        <p:spPr>
          <a:xfrm>
            <a:off x="4643280" y="371484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4"/>
          <p:cNvSpPr/>
          <p:nvPr/>
        </p:nvSpPr>
        <p:spPr>
          <a:xfrm>
            <a:off x="785880" y="200016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lease fill in your exit card and hand it in to one of us as you leave!</a:t>
            </a:r>
            <a:r>
              <a:rPr b="0" lang="en-CA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8" descr="C:\Users\Chili\AppData\Local\Microsoft\Windows\Temporary Internet Files\Content.IE5\BH9ZW7WV\MCj03963280000[1].wmf"/>
          <p:cNvPicPr/>
          <p:nvPr/>
        </p:nvPicPr>
        <p:blipFill>
          <a:blip r:embed="rId3"/>
          <a:srcRect l="35579" t="18386" r="22630" b="10197"/>
          <a:stretch/>
        </p:blipFill>
        <p:spPr>
          <a:xfrm>
            <a:off x="7715160" y="342900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983-2461-4BA0-B801-D38E10C653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Practice posing parallel and 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Refine understanding of how different representations of relationships highlight different characteristics or behaviours and can serve differen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Highlight the importance of being conscious and explicit about instructional decisions; specifically, the exploration of differ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51B-1F29-4788-9FCA-0B04B0E7BC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1d15c"/>
                </a:solidFill>
                <a:latin typeface="Arial"/>
              </a:rPr>
              <a:t>Minds On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– 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Parallel Task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1785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Verdana"/>
              </a:rPr>
              <a:t>Determine the equation of a function with the following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1680" y="2928960"/>
          <a:ext cx="7358040" cy="265284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13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4 and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a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s through </a:t>
                      </a:r>
                      <a:br>
                        <a:rPr sz="2400"/>
                      </a:b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–1, 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360" indent="-360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zeros           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6143760" y="4500720"/>
                <a:ext cx="97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4643280" y="4929120"/>
                <a:ext cx="973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D0D-CA49-4C8E-87E1-2833797FD5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draw a 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use algebr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ich did you do fir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AC9-E46A-4446-9F45-FF8A09B742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Could you have predicted whether the ‘a’ value was positive or negative before you actually calculat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0C3-5468-4DDA-BE5D-82A0B72ED4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Is the value of ‘a’ what you exp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48C-EC74-4723-81DF-5952FED78B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id you need all three pieces of inform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y?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939-3935-4986-9EF9-B76788D217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Follow-up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How did you determine the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uad &amp; Trig Relationships - Day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FD4-1A8C-4078-B808-87C6D1F40F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8:33:56Z</dcterms:created>
  <dc:creator>Myrna Ingalls</dc:creator>
  <dc:description/>
  <dc:language>en-US</dc:language>
  <cp:lastModifiedBy>Peel District School Board</cp:lastModifiedBy>
  <dcterms:modified xsi:type="dcterms:W3CDTF">2009-08-21T13:08:14Z</dcterms:modified>
  <cp:revision>153</cp:revision>
  <dc:subject/>
  <dc:title>OAME Leadership</dc:title>
</cp:coreProperties>
</file>